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63875"/>
        <c:axId val="32496353"/>
      </c:barChart>
      <c:catAx>
        <c:axId val="57263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96353"/>
        <c:crosses val="autoZero"/>
        <c:auto val="1"/>
        <c:lblAlgn val="ctr"/>
        <c:lblOffset val="100"/>
        <c:noMultiLvlLbl val="0"/>
      </c:catAx>
      <c:valAx>
        <c:axId val="32496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3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F69-C681-4940-88F6-ED82B461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9EF-8856-4251-B08D-0BE7686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5E8-2F38-431E-8D38-98E9B3C7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9B4-2CF5-4536-ABC3-CD5CE222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125-B745-44E2-95BA-4865FB9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8AD-5D55-4144-9E6F-095C537E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A50-0BEF-49B0-91AB-86E1591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793-7351-49B3-83CB-9AB729B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B8C-A923-476B-8815-71C0713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B15-C189-48AF-AD3B-C0BED27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B8B-A56C-473F-9024-D37D9C4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8D8-8672-499A-8922-922E4E2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0DD71-903C-4791-85DB-A14EB0F22A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