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53F-2988-4684-A649-76E894C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938-C16E-4DFC-9CC7-855585F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548FA-D6A5-4C28-9124-4A09D79A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AA269-C9EE-4DB6-8025-6B6189B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0205D-DF8C-4480-A282-583FA7D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92F4-A467-4278-BBCA-9C1B3A8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1DBB8-1640-443A-91B1-31024CE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9E19D-D9B3-4EBF-B85F-7B144E8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C8859-E199-4075-9567-2FF84D3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D962-965F-4BCE-924C-3DE7D6CB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96F1-BC7E-49B4-B77D-20E365A9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CA7DA-D514-4A43-A30F-1D215A7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54B-E290-4D49-BB26-0F1D4F34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9CA5B0-7782-45A7-B7E5-49C2AF85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920E9-8324-42A3-B785-38BE489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20DA8-0E52-4AA4-B51B-2FE319B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141611-3F01-4689-B480-DA8F8B20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434C62-C96C-4158-9692-9964BDC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0C5FB-A66D-4AEC-8D82-FD659A94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33DE0-B326-4566-9363-6D75870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16C53-4F84-46B3-8254-12841B04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E61F3A-54A0-4670-BE61-AF7CA33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1C1EB-AF9D-47D1-B607-93D39E1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398-9FFC-45B2-B05E-2F733B9A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904A7E-FECD-48C4-BD00-AFC7379B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6568-E7A4-43B9-AF71-37995D7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15565-D195-4C3B-A08A-C42B17C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6A31D-B66B-4054-9C93-6AD962D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1FD1-E99F-4B57-A451-4941037C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C929E-967E-46B4-897D-701A1E8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EA35-AE30-4B2A-B583-15DF563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6C2BB-3AFE-4C5D-8649-7596871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7A40-1E0F-4AC5-8DAB-D9427AC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47B81-BC7E-4AB9-9DCA-6561526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446E-74B6-43C1-A98B-AD2F15C2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7022F-C34F-423D-96FB-0E110875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C0F8E-949A-4735-B797-E531FC23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9175-1BF5-4FE6-882A-B7912250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CABE8-7959-4A6F-B47B-3D98D46C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A3479-1BC2-4730-8DEF-E4C8F476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9D492-10D6-4EC9-8B14-A8220F05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DF8EF-60BA-4C76-9BA3-C039FC8C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FE99A-62C1-4528-B9D5-76229ADA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52D96-357C-4315-831D-7F56269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8DAAD-7D33-4BB5-9891-72C3122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6F9-CF55-4579-9029-CF9C4E6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4E26F-2EC3-476B-B0CD-D2D065F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89B2A-D4FB-444E-8757-BEC0E42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BCABD-5B2E-43ED-9BE3-317E4E56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2CB74-82BC-4857-813A-6753E578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BE3E1-1D29-4643-89C3-64CE6AB3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D80E-68EA-4744-A82D-DBD03D8A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C7B-3937-439C-A6AE-6CB2988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041-3239-44B3-9186-21CE2053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7ED3-2D45-495E-98B1-69135DB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58A7-1719-4A87-8546-70F1541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E55-27B8-42C9-AC7A-5ACACE4B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3324-5BA8-4910-A874-BF2862E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CB4-F978-477D-B599-E0D3D31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86B-8C24-4C33-A6EE-55DDD22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C7A-6C64-448F-9693-AAC857EC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A2F-270B-4402-9DC7-79CA81C5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682E-00E7-40B0-94B1-D84627CC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218D-E41B-4406-A63E-4E9ABE35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99F4-7828-42C0-9759-E882BD73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344F-267A-46B0-AF3B-9670D393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735D-9C53-41BD-8DC7-1F6274EA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4C7-5FC7-48D4-ADDF-36FFE59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2B24-D134-4116-BE1D-BDE0EF7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68C5-CE9B-4B82-924B-7243903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C158-A64B-4415-8E25-09D6768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77D3-78C6-4159-AC2B-49DD5C42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15D1-F509-409F-928C-DCC8F76D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7AF5-BE53-41A7-9A43-9CCDB797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A13C-4556-4FD2-AF88-12B0983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EB84-CED6-43CD-9A42-6AF4A2CA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BF01-B595-45AD-9EA3-0540A7B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BFDF-6985-41BA-9481-F7D93EF8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FB0-3CB3-4079-B794-12EE2FD2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EFCE-B140-4203-B903-BF069FA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6EE0-4399-440D-BE4C-5A4C5772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7C49-CF5B-4A27-9EF0-455E68A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0BF5-F7B8-4E85-B570-E4E13AB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8DF0-D710-4B84-BCF7-4781A01D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BF74-71FC-427F-8194-E44DD05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6E709-BC7D-4EA2-BA52-FF1F493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B1D2-9359-449C-A262-A9E0211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F877-B2EF-46DA-A333-670C8573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B00F6-54F3-47CC-A839-1A28878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578-7351-45DF-BD09-8405791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A8252-5A1C-44A8-807B-94E5E4F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997DE-542A-41FD-ACD3-EB53AF8E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D553E-7551-4D22-B7E3-FA1CFC1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33026-4FD5-4F51-AFA0-5F2EC74D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487FD-58FF-4B97-BA49-8BD4869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24D5F-BC72-4693-8115-DE84137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9A732-9D19-4FD3-AB2B-0988023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CA6A2-DDC3-4354-A728-A3F5929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568BA-2B7B-4C67-8D01-8E38FF0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0656A-6110-4641-8F95-1CE328B1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A31-65BC-4455-9681-A4DAA4A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C18C9-6D1E-4E70-9113-8FD79553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A6B5-F461-4270-99F8-2F305103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AD79-39CE-456E-8DD2-3F653F0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827F-8E07-40D7-AEB5-524A78A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EA3E-B3E3-4B8B-BD48-89D481EA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13AE-F30B-4820-8220-C6E3DDE5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80B0-5092-4315-9581-36CE3B98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9DDB-FEC1-461B-AF7D-322C144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118A-3088-4AE0-93F7-F6A8016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0DDA-7B2B-4D79-9AB1-8008DAF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80F-3828-4BFD-87DB-EC68C021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F20B-5356-420D-9827-D8D6883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A195-7013-463B-B2ED-914B14C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0BC5-37D5-4AAA-B455-DAA3F4D9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8A12-15F2-4D77-98D3-153A45C6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44A1C-6184-4CB5-8ADB-339BE8E5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901C-E5A4-4415-AA70-91B4029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9E8F-E466-4BE2-9ADE-6484851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6BC6F-6E1A-4272-A518-F7A8BF4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C8E77-F908-4512-9744-D1FBDFFD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DEEE-433C-4EA8-96FA-4E1E69C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34F-E184-4B89-A51A-937BBC49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176B-D965-453F-A198-CF93B69E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1BC6-23BB-41DA-832D-37D391D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7E63-70D7-4A1D-A3BB-938BF585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DC97-52EF-4EBD-94DC-5912DE18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295EB-85B4-41C9-A964-EB2DCA4D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B0B0-FDAD-40C2-8F56-34393214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BF70-5EF5-41FF-BDF8-FC186B2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9E18-71B2-4479-9954-D04107C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4F67-796F-4391-A202-645D8A4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89F73-E5F6-40F7-9A04-9446C764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CE6-025D-41F4-AFA7-598C381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B6B10-7880-4C6A-AEB6-BBB5F42A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D745-9C62-4731-AF48-3E9096E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AB25A-7407-4EEF-8E75-D6397EE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9B76-AA7B-4E47-B806-9390F44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6A23-A99F-456D-88A3-BD2C6212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37B0-0B04-4013-AF07-CE58BC0E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D6C7-8037-4114-B1A8-614AB082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1BC3B-CFB1-4D9C-A480-87868CF1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972D7-B862-4113-B6AC-414F680A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B6049-EB68-4BCF-A5A3-F7028C2F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3B63-6F4C-4BF5-BBCA-CD5FFA68A3C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900-721F-4E88-87D6-0734295E77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CC83-4AFE-4775-ADCE-93FEF407C8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878-1686-4356-9F7D-C8C2CCF9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60A9-12D3-4495-863B-6185A2D67A6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FA93-8B1B-40D3-889C-31C454D0FE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56C6-431E-4DAA-A38A-18A7A17B3A8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DB5-406D-4ACD-95A6-D5A20A9EB0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490-F8E7-46D6-9B90-9F7B4390A7E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AD43-478F-4F5B-B00A-C9EF70511B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A8F-1348-48BD-B5BE-D9813D152C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06A-35EF-4606-862D-29E7BB9B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008-A134-4EDA-A7C7-A4259A9941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527-F6C1-492C-8278-19BF93B3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24D-76A7-408C-8C74-8864362053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2F65-05A4-4ECC-8CE9-A7236CA3317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943B-9C54-43AF-ACE7-429EE80BDC6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3DC-B3C3-47F0-B95F-014DC8F81E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4F5-759E-443A-9B55-14E5B124605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66E-9964-44DB-B9D5-3623183A45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C9FE-F68B-49B5-8567-108D0219EA4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9ABE-92F5-46A8-9FEE-46967649B4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CFF-17FC-4071-A6FD-7951E49B8D2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234-9D82-45A3-8D93-1930D69C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DCA-C836-4F00-8F1F-22D65BA321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9CC5E-4BA7-414C-B69C-2DB75DCF16F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12D3-4991-4B4D-9699-5EA6DF4B92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A9D2030-E9C8-4139-B8E2-641364BCB72F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C044-C2D8-49E2-8BFA-3E78011A1C95}" type="slidenum">
              <a:t>3</a:t>
            </a:fld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6AFD9-2687-455B-B5E6-E6E23605520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AAE7519-E956-40F4-8E56-99C07EB95AE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7378-375B-4C2C-A052-89F5858639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C5BDAA2-0F34-43A4-ABB2-54CCDD32C17E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EA3E9-B0DE-48D7-A54F-2A9DC92FF3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FB992D2-3CAA-4BF9-B1BF-7BE31337DA3D}" type="datetime1">
              <a:rPr lang="en-US"/>
              <a:t>07/30/26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