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23CBD-5A11-4D8F-B6D7-B418A0A5B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4923E-C4E4-4DC1-86C2-3DE53C46A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245C2-5439-493A-921A-1F077BD09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4437A-9B2A-4C0F-A33A-927072B16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D9FD3-4A0B-48C0-A60A-BD575E896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2E65C-D9C9-42CC-9157-267E16034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C3BC8-3402-41CF-A93B-77DAA2204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0094D-D4A8-4DB8-98DD-08ED6538E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F1102-4CC6-4C47-A419-7A8DA90DB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0A1D1-C28A-4801-9350-D6BCD5C1C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D556E-4ECB-4EEE-B659-2BC516975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971BA-1787-4674-BE1E-7592633CE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F5A3F-EF80-4198-91C4-CDBD0095193A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uturnArrow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-Tur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066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99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124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Strip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899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Notch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lef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hev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rightArrowCallout">
            <a:avLst>
              <a:gd name="adj1" fmla="val 25002"/>
              <a:gd name="adj2" fmla="val 25000"/>
              <a:gd name="adj3" fmla="val 33335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eftArrowCallout">
            <a:avLst>
              <a:gd name="adj1" fmla="val 25002"/>
              <a:gd name="adj2" fmla="val 25000"/>
              <a:gd name="adj3" fmla="val 33335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upArrowCallout">
            <a:avLst>
              <a:gd name="adj1" fmla="val 50007"/>
              <a:gd name="adj2" fmla="val 50003"/>
              <a:gd name="adj3" fmla="val 16667"/>
              <a:gd name="adj4" fmla="val 666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downArrowCallout">
            <a:avLst>
              <a:gd name="adj1" fmla="val 50007"/>
              <a:gd name="adj2" fmla="val 50003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ircular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95280" y="620640"/>
            <a:ext cx="6264360" cy="2952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leftRightArrow">
            <a:avLst>
              <a:gd name="adj1" fmla="val 50000"/>
              <a:gd name="adj2" fmla="val 3981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0:52:08Z</dcterms:created>
  <dc:creator>tb121644</dc:creator>
  <dc:description/>
  <dc:language>en-US</dc:language>
  <cp:lastModifiedBy>tb121644</cp:lastModifiedBy>
  <dcterms:modified xsi:type="dcterms:W3CDTF">2005-05-25T10:52:24Z</dcterms:modified>
  <cp:revision>1</cp:revision>
  <dc:subject/>
  <dc:title>Slide 1</dc:title>
</cp:coreProperties>
</file>