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32517"/>
        <c:axId val="73000046"/>
      </c:barChart>
      <c:catAx>
        <c:axId val="965325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00046"/>
        <c:crosses val="autoZero"/>
        <c:auto val="1"/>
        <c:lblAlgn val="ctr"/>
        <c:lblOffset val="100"/>
        <c:noMultiLvlLbl val="0"/>
      </c:catAx>
      <c:valAx>
        <c:axId val="73000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325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919-54C1-478A-BF80-AFE58EE3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037A-438E-47ED-9351-1037DA51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92B-D109-4318-AC0C-10F0DE61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B9FF-093B-4BA2-ADB3-738EC436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ABD-02D6-483F-B5D7-8EA19646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320D-BE90-4956-A58B-0A93506A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D6D6-A9A4-4D98-A355-A38C9C40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EF5D-CDFB-4C61-93E8-2C70141B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5007-8261-49F6-9C15-3C0D6978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EB5A-1596-401B-A3F5-AA00A870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E40-7223-426D-ABC4-DC88D8A6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A069-EE84-4EB2-B1B7-BAAA39E2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17F64-0589-4270-847D-EFC26286E0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