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4870"/>
        <c:axId val="84644613"/>
      </c:barChart>
      <c:catAx>
        <c:axId val="40114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44613"/>
        <c:crosses val="autoZero"/>
        <c:auto val="1"/>
        <c:lblAlgn val="ctr"/>
        <c:lblOffset val="100"/>
        <c:noMultiLvlLbl val="0"/>
      </c:catAx>
      <c:valAx>
        <c:axId val="84644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4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24B-1508-4A0D-AD14-F5F8B24B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BE4-DEE9-46D3-B832-7909882C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A58-74C5-4496-8744-A5CEBC9A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E30-E26A-46D5-BB78-D735BD5C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015-B6EE-4BCC-A52F-F01017AD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A74-2987-49D1-B745-FBA9712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387-1C96-4F0E-8FC3-A15E6D9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D29-95DC-457F-976E-2F37854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D5D-CF33-4C02-B5AA-B28EDF02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A10-A20A-4A5E-93A0-C525591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4B9-B349-46D9-95E1-1B24A1D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99D-79EF-4EDD-9257-CFCCC2D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7CA1A-17F0-4387-8264-0E3C4A7195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