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78100"/>
        <c:axId val="17705557"/>
      </c:barChart>
      <c:catAx>
        <c:axId val="80378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5557"/>
        <c:crosses val="autoZero"/>
        <c:auto val="1"/>
        <c:lblAlgn val="ctr"/>
        <c:lblOffset val="100"/>
        <c:noMultiLvlLbl val="0"/>
      </c:catAx>
      <c:valAx>
        <c:axId val="17705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8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114-F64C-4D4D-A90A-07BEB5E7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757-984B-4CFF-994B-40635F2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67A-3C81-4EAA-9A73-8DE8CCBF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337-4121-451F-8861-D0536347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A0D-0AEE-416D-A374-3F3A627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84B-5BF4-48F3-95F4-6F9BA5D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C54-0375-4B8B-A620-221D238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44D-765C-41DD-8C12-B9657F4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892-56FC-47B9-A852-D8C91432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4FD-30C7-43CD-B7E9-3F4FCE8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88-3EAE-4B95-A40A-4A742B0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B6F-9780-4DF1-B52B-DA5D7D2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3D099-F95E-4D5A-A819-5C8C28CD0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