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753826"/>
        <c:axId val="70243112"/>
      </c:barChart>
      <c:catAx>
        <c:axId val="237538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43112"/>
        <c:crosses val="autoZero"/>
        <c:auto val="1"/>
        <c:lblAlgn val="ctr"/>
        <c:lblOffset val="100"/>
        <c:noMultiLvlLbl val="0"/>
      </c:catAx>
      <c:valAx>
        <c:axId val="702431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538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BF7B-777D-4A80-BA63-03A43EE2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B20D-4AD8-4369-995E-54E9789C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5A3B-BEC7-472C-84DE-FCC96102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9B49-3012-48E1-A154-1CD52FC0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4FA6-E7C9-4A58-B510-15A20B25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297C-3DF2-4876-AD51-7212097E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6BB7-F68F-4DEE-9F12-EE683A04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FD64-ED4C-4063-A68E-CF5D0ECD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1A43-AAB4-46A3-BE2B-8A3DCF3F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7E99-00E0-4A3C-B4DB-E5CB751A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41CE-F58F-4D97-A5F1-BCB890EA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A8C3-E1BD-460C-9C0C-2B151047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1BC46-4C5E-4A6A-9B9C-CA12271770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