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86072"/>
        <c:axId val="53248054"/>
      </c:barChart>
      <c:catAx>
        <c:axId val="979860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48054"/>
        <c:crosses val="autoZero"/>
        <c:auto val="1"/>
        <c:lblAlgn val="ctr"/>
        <c:lblOffset val="100"/>
        <c:noMultiLvlLbl val="0"/>
      </c:catAx>
      <c:valAx>
        <c:axId val="532480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860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C65C-5AB7-47B5-9801-36156A53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8BF1-FED4-469F-BCA0-10B7792F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E22-CEC6-4DFD-9B29-6A725A24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DE3-63C1-4F1A-8261-5DB1AEC1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385-D43A-4FF8-AF41-2626037B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DB6-C817-4EAB-AA65-03D1FC86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6B8-966A-4349-83FF-B659F70E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6F0-48C9-4B0B-810F-E3D89EE8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DB3B-5E19-49B4-9FE9-8E5C8130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0CD-CC90-4C60-9275-AB8292F8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5BE4-BD82-4663-A266-906EDD09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C78-B4A3-4A95-9E9C-5DCCA2D8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1AFC1-DC78-44C1-8D46-FB4C2603D8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