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91265"/>
        <c:axId val="47512775"/>
      </c:barChart>
      <c:catAx>
        <c:axId val="16391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12775"/>
        <c:crosses val="autoZero"/>
        <c:auto val="1"/>
        <c:lblAlgn val="ctr"/>
        <c:lblOffset val="100"/>
        <c:noMultiLvlLbl val="0"/>
      </c:catAx>
      <c:valAx>
        <c:axId val="47512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91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658-1C31-40C7-9B17-6E3900B8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C74-6F01-4DCB-A0A2-2801C2A2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4C5-BB7C-44D5-A6F7-A43CD8F7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37FD-1986-48D9-AFD2-9FF8A8FB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CC6-193C-4506-A22B-44486C93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0EE-ACF9-4561-ACD9-216FC83F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EE9-F915-45BB-A248-459B6470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6C8-F833-4C07-8820-8FFF728E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0E0-4F15-4EA8-BE5C-BFCAEF34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918-28A9-4B8C-B92F-61688140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CE4-871C-4C5C-9044-C1BAC722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278D-23F4-4042-B142-CDE83534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226FE-31D6-49FA-8AE1-5FD26388D9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