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35F2B3F-5DCB-48C4-A38D-C780990F7F8B}"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8E20449-52D1-4E95-A56F-BEC9F16C4E7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9ADD2D3-6980-4FDA-B231-04FFF0F3F6C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2FED07F-49E8-43DC-828D-40BFC5A74D1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ECDE959-8DCC-4534-8C02-B4DE6021A5E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86459A8-8D74-455B-860D-5697BB728F5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16CEA1B-605D-4C8F-93D2-FC08FF84AF9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EBA53AF-DF22-4350-A880-99F6B31A18E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ECACF65-9FDB-4545-9884-8613695B3F4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8D8348F-976B-4E4A-B651-82D16F6C6F1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DE0E506-1BB3-4D42-ADF7-677E1572926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7BCACF4-D9C1-463B-8F62-C3FFCC0D47F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4F98BC0-ABEF-404C-BF09-6F318BB7F4D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EC079FE-44C7-4AB2-941C-1079E9FED37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A37A969-C525-4353-8CAA-3ED56E51198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28C93F7-1849-4CD6-9EEF-5821F15ED91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04B6CAD-2C56-4E8C-B0ED-DA77EC8F7B8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BDF1218-B461-470B-8D8B-FCEE1CBAE25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9632D5B-92B8-4D71-8761-E7889F7D388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D33C714-2297-483F-9604-14950276C34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9A9D0AF-D95C-4117-84D1-A6669BD0A04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49A2879-5E06-4111-9796-3B762264D07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3D71581-A142-422D-87E1-4C8A552CE59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C58034F-5097-429C-BEB1-0E1A1C8F64F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AE0FF48-0EAB-46AE-BD6B-B9F431A32CF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7F9AC23-C16A-4BA4-9E22-13EF6600F29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1D676-A439-4A1B-93B1-EBAAE445F592}"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6DD62-F3D8-4BB3-86CC-D9045B1EC04D}"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BED51EF-3CE8-4F72-9582-4929497D6C41}"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322D79E-49CC-475E-8D21-53FC687D1C40}"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ECC0B56-8F9F-4CE1-B05E-CCCD327F196A}"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3E63721-6339-4BED-9466-74223756AD80}"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C6D6966-4997-47EF-A085-F244C580724C}"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B5D7D32-9962-4738-A0A4-7E1A087D2A99}"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3AB1E0C-92EF-49FE-9AA9-0B1A8CF9F329}"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03B655C-527F-442E-AFD3-BA9A90D8E098}"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4A34F19-3A05-4005-BD9B-0D525F616A0D}"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14110A6-F0D8-42F8-BBF5-2BC401B364A9}"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7990AC0-5213-4A4D-8198-55021D5C1901}"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43E4F91-0D04-48B8-98E7-0569EEDE3986}"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196A401-B831-455C-AC1E-BFAFCB9632C0}"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A52D11D-77A8-49AC-A06E-3C2B55A47452}"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F79A928-12CE-41DC-A41A-6238CA5426A9}"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95FCF5A-F980-4D62-915D-DE633030F02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5E2841A-558D-4570-81B3-1B33425CAD26}"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81ADAE6-3F75-4B7F-AA7F-772957E78E0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32972CE4-2FD6-45EB-B647-2E15586CA8C1}"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53DEBD3-BE0E-49B6-B9E7-EC0E47309111}"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FAC357F-174E-4205-8D90-CB23FF90450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F076890-8542-4165-A898-710DF1DF250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4A850A3-A446-46B1-95D3-93A9AC2D86ED}"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AF0B0E9-D9E4-4823-BDC6-D4B858452BA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9C97F65-7906-4198-982E-E1BEF2FF402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3FB65D5-1538-4817-B371-25C326E5A41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0F4D0C8-8966-4430-9BEB-8AB549D5F8B2}"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92FF3F8-F77D-47F3-B23E-3D01B891298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5BDCA1C-D08E-4B1C-B9FC-E096E1FB200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F81BDC8-AFEC-431A-BF15-9C08E99B91E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0739CD4-283F-4C41-9841-4AEA00E3D211}"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4B14A90-3AB3-4435-AC06-3BED3DADF99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49FAD7E-5EDD-4DD3-AE8B-1680248FCFD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5D98B29-37C9-4D10-A0B5-FE70319FF58B}"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4718938-CC23-4907-A6AC-3A210DB15B6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BCA7B71-79B6-4862-92DA-996524E0797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70FB3C7-5D5B-48C5-BC79-F4D70938A0D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8315F4C-159A-4CA3-86FC-230193E7335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C7AE765-04F4-46EE-9142-DC33BE1F78BB}"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F593B33-DA91-4399-BA17-0E83F2F39D85}"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9FC3242-B5E4-411C-A71D-55CA91188DBC}"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AD56E9E-57B4-488F-88D4-0889D674057D}"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2B632F2-FABA-4CA2-AD78-FF06C75B4D71}"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4EC0E14-62CE-4A81-9226-8BC841F23591}"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B07C1DE-5501-4C35-A601-7E178EFB0222}"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7C5D07B-6E93-4BCB-A410-4E9B35132763}"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615B099-988C-4BD1-82A4-ABE1CB0C8E0B}"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8B9EB8F-2247-4065-B150-748D3C3D7BC1}"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A56E513-0D70-40E8-B7FA-2730F546B09F}"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6DC26D3-2989-4DD6-8CFE-FC7BC4250666}"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F27BA91-8C54-467D-9661-99DB4C5097B5}"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27F7BFB-821D-482C-980F-795DC431042A}"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E166538-CF12-4B5E-8E7D-BE2B3A0A7A3E}"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A25C305-7D5F-4C44-8C9F-994F406A9ADB}"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A1A7314-B470-42D0-85E1-ECEC89CD2DD7}"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6FC8B93-30C9-4A3D-92E9-25CFE6A8C435}"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B53B84C-B110-426B-98C0-A41E2C5372F9}"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79EDB2A-B08B-48D7-8C12-9B467AA8E130}"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AAD2E31-ACAD-4EF7-8CFF-67D7452BE83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C2C386A-DB23-48A1-B04A-444463B6447D}"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58C48D5-9906-4FC1-9F63-C12C1DC38777}"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696836E-4731-45FC-A8D6-1D3876BC3540}"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4C4FE46-32A5-470F-A36D-B7E717081779}"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D862D93-EA06-4E8B-9B11-123E51DE840C}"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8CA6615-8EFF-4FF2-BF31-62929AED24E8}"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F353EB2-8829-44A8-BCD1-FCE5EFEB0570}"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9A0074E-8AEF-493A-8A07-F27A69317607}"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521990F-F72A-454F-BEB5-F587C44CAAD4}"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4415FDC-0DFD-426B-94E9-004CC45187C5}"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A2AC1F9-F745-4050-A037-9B85C3E8563E}"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FCDF4DA-3629-49B6-A666-94A5BFA2A89B}"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BBFA5D4-7049-4A29-9C20-473D93DD0485}"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CAB08F0-85B4-43AD-B3ED-E4C11B9C0CB8}"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646FE45-D80C-4ED1-841A-67460E6AEDB6}"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AEA9087-8A83-4CE3-ADB5-7B30CED05F94}"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0DA80A8-1435-4F7C-8982-56B254B73040}"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C6A98BA-30A0-46E5-A4A5-8218EECF0CAE}"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A5A2AFC-E9D5-47A8-A04F-619C6E207FD8}"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6130E8D-734B-4A8A-9D0E-A97E336C7F5F}"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38377D4-FEFE-439A-9D72-6AD9A3ACBA06}"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42737B7-D5FE-4331-BAE5-4792B7472441}"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46272E1-066F-4229-9EF5-1AA3E6A89FCB}"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51EC19E-75EB-45D4-AD55-D902C8F7BCA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6CBF10F-F3F5-4524-8F4C-53FB493811F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533A494-EEE9-4866-9A2D-33E5359991A9}"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17CA890-A3C7-42FB-BCFF-B764DCD00AF0}"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8531ED2-963B-463A-9BF6-045B12AE9084}"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291BDB5-8459-4CA4-865B-3F2C98D07FC5}"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69948CE-5671-4A06-8AF2-8EFF6F93A3F1}"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80A0039-F1BD-40BF-927A-AE0D1C098DAF}"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7E1B297-3D2F-4915-A316-26A783587E6B}"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07C8284-AEA2-4CD1-A14D-E8B88E6B371E}"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ED58A0D-EFEF-4136-85E9-E27B26907671}"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830AA20-D6ED-497F-9FD2-D61377D7D343}"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B0D25FC6-A074-40F4-BEAA-BAE0EA4E9CC1}"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31171AB-8E09-4AAD-BFAD-9C33A1902AA2}"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83031A0-6394-4177-B17F-890EFCE3EAA6}"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EC9AD6E-88EC-4DF6-B229-CB92FA9A8443}"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55EC068-6AB6-4DC7-9B60-B51FD548F5D9}"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3A43FE4-6BBC-426F-923A-6856F8D2343C}"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2083B5B-711A-46BE-8423-D95ABA78CFD3}"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314E3F8-8CE0-420F-ABA2-7327B216C40B}"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E9F6C97-4F90-45FC-B471-8E62A538BC44}"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F8FEC92-4860-4D3B-94AD-536E988D7FB0}"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D2FCB82-8227-4FDE-9DB2-FE6815EF0DC6}"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6A76373-62E4-47B0-A9EC-C7298AE84354}"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B8780687-CB41-450D-B284-C813B108EF7A}"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1E1B4D0-7483-4B89-B185-29093EB712F3}"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CFCFCEB-EE4D-4A5B-862D-6C3C6EB6E11D}"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AD33828-44A3-4819-A8CB-F42B1CE60B66}"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02A903F-8923-4998-9E73-670E0684CD06}"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5CB6FD8-3DAA-4397-907C-C66D21596E79}"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