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38976"/>
        <c:axId val="98912547"/>
      </c:barChart>
      <c:catAx>
        <c:axId val="60538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12547"/>
        <c:crosses val="autoZero"/>
        <c:auto val="1"/>
        <c:lblAlgn val="ctr"/>
        <c:lblOffset val="100"/>
        <c:noMultiLvlLbl val="0"/>
      </c:catAx>
      <c:valAx>
        <c:axId val="98912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38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AC5-52E6-4102-AEB1-EFEB5760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4B5-CBB2-4F82-9261-63BD9C9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625-DAE8-42BE-B856-AAE576C9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D6D-01F5-4371-A53C-69D3A2F3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63B-07F9-43FC-B6A1-9771CCD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FC7-6C0A-46BF-8C30-93C0FE3A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F8E-8A09-4204-8361-8E7A77A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542-9B4B-4484-8977-E867E5F9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D63-75CE-415D-B921-785A7111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E96-E77D-4DD9-8B5C-A073D80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C1D-DF8E-40B4-9CFF-9180BFF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298-5A8F-4F62-B4D7-9411741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3A788-4629-4EA6-A12B-F0354945FD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