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78860"/>
        <c:axId val="78363911"/>
      </c:barChart>
      <c:catAx>
        <c:axId val="57078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3911"/>
        <c:crosses val="autoZero"/>
        <c:auto val="1"/>
        <c:lblAlgn val="ctr"/>
        <c:lblOffset val="100"/>
        <c:noMultiLvlLbl val="0"/>
      </c:catAx>
      <c:valAx>
        <c:axId val="78363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8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F82-9534-47BD-A910-9E880D2E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89A-8CF3-4CFA-9AF2-7F09353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331-5DA1-4114-AA98-84827839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EBA-9583-4889-B9A0-4C193FA7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CD8-D34A-47C8-980A-51D3CC0F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DB1-B89C-41D4-AD22-53A44355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C62-BBDC-4B1A-8D1B-C71F4B3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C59-5FC3-4DA2-9384-308C2A5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B1F-2C1A-468E-8DC0-E00EBAF0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B5D-C8A0-45F3-9D03-27DCBAB0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B16-F377-4D8B-8486-F1DDEA0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D5C-4E45-46DE-82B7-02C63A2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CE9CD-BC12-4E4A-A84C-4EAE07405B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