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31452"/>
        <c:axId val="65418246"/>
      </c:barChart>
      <c:catAx>
        <c:axId val="11531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8246"/>
        <c:crosses val="autoZero"/>
        <c:auto val="1"/>
        <c:lblAlgn val="ctr"/>
        <c:lblOffset val="100"/>
        <c:noMultiLvlLbl val="0"/>
      </c:catAx>
      <c:valAx>
        <c:axId val="6541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31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C71-00A1-41CA-A945-7D52AAEF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38A-F1AC-4FD0-BD9B-AED49D2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255-8E64-4CAC-A96C-AAD47F6A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E9E-F7A6-4404-A164-17E61B1D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BF6-A668-4EB2-8AF0-13EF75B7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225-3E82-445B-9717-A140237D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1D4-A53A-44A0-9FBE-58202B4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241-2EB4-4A13-BAD2-E9F9D6BF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B29-F4C3-436C-AF82-DCDDCD92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B33-FEAE-4D4B-9037-546BC759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976-5EAB-4184-BC4A-2D7049F6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C68-9D72-4525-9C03-11107A5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88733-9EA4-4943-8204-82C46222F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