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18463"/>
        <c:axId val="61360492"/>
      </c:barChart>
      <c:catAx>
        <c:axId val="35718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60492"/>
        <c:crosses val="autoZero"/>
        <c:auto val="1"/>
        <c:lblAlgn val="ctr"/>
        <c:lblOffset val="100"/>
        <c:noMultiLvlLbl val="0"/>
      </c:catAx>
      <c:valAx>
        <c:axId val="61360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18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44E-D041-4C50-8489-EFAC82F6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898-FB2C-4759-8C18-831C70DA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E4A-54E2-4279-924D-7DC285D8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927-F4BA-4332-B091-B9FCBCB4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555-B032-4DBD-AE58-8CDD9BF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60B-01DB-4128-82C5-44CF603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F3D-5F85-4DA4-B40C-23C53F86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BAD-8948-4296-BB0D-CD8F17F2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984-76D9-4D92-972C-9E77A81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A62-B485-4BA4-A15E-9F91CE4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CE4-656C-4DAC-BA92-0D7AFAE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44A-BA42-4590-9C8C-29495E78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533A5-ABFE-4AE2-A11C-724E15AA5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