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6CD63-9A40-4CC1-B95F-ECB0F31B4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F34D2-4826-4C1C-BBD9-3FE6B7736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15406-3025-44E7-90FB-8A91E5F9C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A275E-34A7-41FD-BDC5-6A6A038A8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86E24-AE26-42C1-BE81-1175EF09C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B638C-9B1F-483D-B66B-98B2F884C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D4A8C-3FD4-43BA-A543-2F728FCC0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583BD-2DC2-4029-B2BE-9BAE9863C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0FC68-AE1A-4819-92DA-429637F93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5EA21-999B-4204-9897-E7F2341B4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43A09-E920-4AA4-84F9-B9192FEC3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F277C-799C-4A32-913E-AE7A28BEE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41992-DA58-40DE-95BC-7A90FAFFDA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Symbol"/>
                <a:ea typeface="Symbol"/>
              </a:rPr>
              <a:t>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Symbol, Club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  <a:ea typeface="Arial"/>
              </a:rPr>
              <a:t>►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‘Normal’, Play arrow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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MT Sorts, 5 point sta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Wingdings, Smiley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8T10:46:03Z</dcterms:created>
  <dc:creator>Michael</dc:creator>
  <dc:description/>
  <dc:language>en-US</dc:language>
  <cp:lastModifiedBy>Michael</cp:lastModifiedBy>
  <dcterms:modified xsi:type="dcterms:W3CDTF">2004-08-18T10:49:19Z</dcterms:modified>
  <cp:revision>2</cp:revision>
  <dc:subject/>
  <dc:title>Slide 1</dc:title>
</cp:coreProperties>
</file>